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6400800"/>
            <a:ext cx="252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© 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89633-8306-4ED9-A709-213A1FCBB6F1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5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AISC CIS/2  Workshop #2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1.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ormance Classes: Revision plus Changes since CIS/2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5560" y="49860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vine, CA: June 1999 (rev 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pleting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53400" y="2514600"/>
            <a:ext cx="2265480" cy="642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ASE-C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58480" y="4191120"/>
            <a:ext cx="2264040" cy="64260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00"/>
                </a:solidFill>
                <a:latin typeface="Arial"/>
              </a:rPr>
              <a:t>Comple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07320" y="4191120"/>
            <a:ext cx="259308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Incomple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98" idx="2"/>
            <a:endCxn id="99" idx="0"/>
          </p:cNvCxnSpPr>
          <p:nvPr/>
        </p:nvCxnSpPr>
        <p:spPr>
          <a:xfrm rot="5400000">
            <a:off x="2448720" y="3039840"/>
            <a:ext cx="978480" cy="1296360"/>
          </a:xfrm>
          <a:prstGeom prst="bentConnector3">
            <a:avLst>
              <a:gd name="adj1" fmla="val 49981"/>
            </a:avLst>
          </a:prstGeom>
          <a:ln w="28440">
            <a:solidFill>
              <a:srgbClr val="cc0000"/>
            </a:solidFill>
            <a:miter/>
          </a:ln>
        </p:spPr>
      </p:cxnSp>
      <p:cxnSp>
        <p:nvCxnSpPr>
          <p:cNvPr id="102" name=""/>
          <p:cNvCxnSpPr>
            <a:stCxn id="98" idx="2"/>
            <a:endCxn id="100" idx="0"/>
          </p:cNvCxnSpPr>
          <p:nvPr/>
        </p:nvCxnSpPr>
        <p:spPr>
          <a:xfrm flipH="1" rot="16200000">
            <a:off x="4055400" y="2728800"/>
            <a:ext cx="978480" cy="1918440"/>
          </a:xfrm>
          <a:prstGeom prst="bentConnector3">
            <a:avLst>
              <a:gd name="adj1" fmla="val 49981"/>
            </a:avLst>
          </a:prstGeom>
          <a:ln w="28440">
            <a:solidFill>
              <a:srgbClr val="cc0000"/>
            </a:solidFill>
            <a:miter/>
          </a:ln>
        </p:spPr>
      </p:cxnSp>
      <p:grpSp>
        <p:nvGrpSpPr>
          <p:cNvPr id="103" name=""/>
          <p:cNvGrpSpPr/>
          <p:nvPr/>
        </p:nvGrpSpPr>
        <p:grpSpPr>
          <a:xfrm>
            <a:off x="4747680" y="2362320"/>
            <a:ext cx="2297520" cy="2163240"/>
            <a:chOff x="4747680" y="2362320"/>
            <a:chExt cx="2297520" cy="2163240"/>
          </a:xfrm>
        </p:grpSpPr>
        <p:cxnSp>
          <p:nvCxnSpPr>
            <p:cNvPr id="104" name=""/>
            <p:cNvCxnSpPr>
              <a:stCxn id="100" idx="3"/>
              <a:endCxn id="98" idx="3"/>
            </p:cNvCxnSpPr>
            <p:nvPr/>
          </p:nvCxnSpPr>
          <p:spPr>
            <a:xfrm flipH="1" flipV="1">
              <a:off x="4747680" y="2848680"/>
              <a:ext cx="2083680" cy="1677240"/>
            </a:xfrm>
            <a:prstGeom prst="bentConnector3">
              <a:avLst>
                <a:gd name="adj1" fmla="val -10281"/>
              </a:avLst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105" name=""/>
            <p:cNvSpPr/>
            <p:nvPr/>
          </p:nvSpPr>
          <p:spPr>
            <a:xfrm>
              <a:off x="4953240" y="2362320"/>
              <a:ext cx="194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leted_b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44197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055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10080" y="51814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54100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72428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0552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Combinat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emble as needed from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omplet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ASE-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e by a list of BASE-CC numb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me entity can be repeatedly included at multiple levels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enn diagram nest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Huge number of possible combination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Why so complex?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alid Subse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completed CC simply defines a subset of the LPM that is logically valid to instanti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bset need not be usefu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bset need not be (that) meaning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PM/5 is large and comple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ff"/>
                </a:solidFill>
                <a:latin typeface="Times New Roman"/>
              </a:rPr>
              <a:t>many valid subsets are possibl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ard Boundari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overall scope of a particular translator corresponds to a particular CC comb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rrectly translate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l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data within that valid subs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105000"/>
              </a:lnSpc>
              <a:spcBef>
                <a:spcPts val="9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every </a:t>
            </a:r>
            <a:r>
              <a:rPr b="1" lang="en-GB" sz="2400" spc="-1" strike="noStrike">
                <a:solidFill>
                  <a:srgbClr val="00ffff"/>
                </a:solidFill>
                <a:latin typeface="Times New Roman"/>
              </a:rPr>
              <a:t>entity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,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105000"/>
              </a:lnSpc>
              <a:spcBef>
                <a:spcPts val="9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every (non OPTIONAL) </a:t>
            </a:r>
            <a:r>
              <a:rPr b="1" lang="en-GB" sz="2400" spc="-1" strike="noStrike">
                <a:solidFill>
                  <a:srgbClr val="00ffff"/>
                </a:solidFill>
                <a:latin typeface="Times New Roman"/>
              </a:rPr>
              <a:t>attrib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y translator provide user control for exporting or importing lesser valid sco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Care when scoping a translator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25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699"/>
                <a:gd name="adj5" fmla="val 49453"/>
                <a:gd name="adj6" fmla="val -510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28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ex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95680" y="5705640"/>
            <a:ext cx="274320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26796"/>
              <a:gd name="adj5" fmla="val -253282"/>
              <a:gd name="adj6" fmla="val -5172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Scope: Ful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Application fully 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xport full CC scope of the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IS data will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s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satisfy any subset C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the translator provides for it, could export a lesser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IS data will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s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satisfy any subset CC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219320" y="3657600"/>
            <a:ext cx="3200400" cy="1752480"/>
          </a:xfrm>
          <a:prstGeom prst="cloudCallout">
            <a:avLst>
              <a:gd name="adj1" fmla="val -23462"/>
              <a:gd name="adj2" fmla="val 3713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40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763"/>
                <a:gd name="adj5" fmla="val 51569"/>
                <a:gd name="adj6" fmla="val -515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43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ex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5486400"/>
            <a:ext cx="2514600" cy="825480"/>
          </a:xfrm>
          <a:prstGeom prst="borderCallout2">
            <a:avLst>
              <a:gd name="adj1" fmla="val 18750"/>
              <a:gd name="adj2" fmla="val -8333"/>
              <a:gd name="adj3" fmla="val 13282"/>
              <a:gd name="adj4" fmla="val -14268"/>
              <a:gd name="adj5" fmla="val -61462"/>
              <a:gd name="adj6" fmla="val -5403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populated information sco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9880" y="1676520"/>
            <a:ext cx="266724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8513"/>
              <a:gd name="adj5" fmla="val 451407"/>
              <a:gd name="adj6" fmla="val -28865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Scope: Partia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Application only partly 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ort full CC scope of the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will the mapping logic still work correctl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bset CC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a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e fully populated with CIS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translator provides for it, could export a lesser (but fully populated)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55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699"/>
                <a:gd name="adj5" fmla="val 50509"/>
                <a:gd name="adj6" fmla="val -510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58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briefly revise the topic of Conformance Classes (CC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ntroduce some CC related changes since Workshop #1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i.e. from CIS/2 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release to CIS/2 Publis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57200" y="1981080"/>
            <a:ext cx="3809880" cy="3810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81080" y="3048120"/>
            <a:ext cx="2895840" cy="2895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64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888"/>
                <a:gd name="adj5" fmla="val 49453"/>
                <a:gd name="adj6" fmla="val -52013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67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5791320" y="5791320"/>
            <a:ext cx="281916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26745"/>
              <a:gd name="adj5" fmla="val -37870"/>
              <a:gd name="adj6" fmla="val -51685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reat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Scope: Ful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orting application not pre-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S data full populates CC scope of import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S dat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a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xceed CC scope of translato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438280" y="3581280"/>
            <a:ext cx="1447920" cy="1447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2666880"/>
            <a:ext cx="3657600" cy="2895840"/>
          </a:xfrm>
          <a:prstGeom prst="cloudCallout">
            <a:avLst>
              <a:gd name="adj1" fmla="val -26777"/>
              <a:gd name="adj2" fmla="val 42212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1320" y="256068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574"/>
              <a:gd name="adj5" fmla="val 51569"/>
              <a:gd name="adj6" fmla="val -50500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the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77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5334120" y="5513400"/>
            <a:ext cx="31240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12041"/>
              <a:gd name="adj5" fmla="val -256805"/>
              <a:gd name="adj6" fmla="val -4659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pulated valid sub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Scope: Partia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orting application not pre-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 full CC scope of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will the mapping logic still work correctl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DEALLY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logic able to import, in isolation, each within-scope completed BASE-CC!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translator provides for it, could import a lesser (but fully populated)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and Impor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CC scope of trans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er valid subset (requested and/or partial dat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CC scope of translato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cess data CIS data ignor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er valid subset (requested and/or partial dat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application must be able to store and manipulate any such subse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438280" y="3581280"/>
            <a:ext cx="14479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2666880"/>
            <a:ext cx="3657600" cy="2895840"/>
          </a:xfrm>
          <a:prstGeom prst="cloudCallout">
            <a:avLst>
              <a:gd name="adj1" fmla="val -26777"/>
              <a:gd name="adj2" fmla="val 42212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791320" y="256068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574"/>
              <a:gd name="adj5" fmla="val 51569"/>
              <a:gd name="adj6" fmla="val -50500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89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62520" y="5715000"/>
            <a:ext cx="26668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8810"/>
              <a:gd name="adj5" fmla="val -356648"/>
              <a:gd name="adj6" fmla="val -30287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05520" y="1752480"/>
            <a:ext cx="31240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15194"/>
              <a:gd name="adj5" fmla="val 393347"/>
              <a:gd name="adj6" fmla="val -61226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pulated valid sub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520" y="2286000"/>
            <a:ext cx="85345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IS/2 Beta Documentation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ncomplete 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ludes a reference to an entity that is external to that BASE-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ise due to “dangling” multiple-choice references v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BSTRACT super-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SELECT 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Via ABSTRACT supertype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5105520" y="3297240"/>
            <a:ext cx="3019320" cy="1270080"/>
            <a:chOff x="5105520" y="3297240"/>
            <a:chExt cx="3019320" cy="1270080"/>
          </a:xfrm>
        </p:grpSpPr>
        <p:sp>
          <p:nvSpPr>
            <p:cNvPr id="203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6694560" y="3297240"/>
              <a:ext cx="0" cy="3160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5491080" y="3612960"/>
              <a:ext cx="160560" cy="477720"/>
              <a:chOff x="5491080" y="3612960"/>
              <a:chExt cx="160560" cy="477720"/>
            </a:xfrm>
          </p:grpSpPr>
          <p:sp>
            <p:nvSpPr>
              <p:cNvPr id="206" name=""/>
              <p:cNvSpPr/>
              <p:nvPr/>
            </p:nvSpPr>
            <p:spPr>
              <a:xfrm flipV="1">
                <a:off x="5581080" y="3612960"/>
                <a:ext cx="0" cy="47772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491080" y="3911760"/>
                <a:ext cx="1605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7548480" y="3638160"/>
              <a:ext cx="158760" cy="477720"/>
              <a:chOff x="7548480" y="3638160"/>
              <a:chExt cx="158760" cy="477720"/>
            </a:xfrm>
          </p:grpSpPr>
          <p:sp>
            <p:nvSpPr>
              <p:cNvPr id="209" name=""/>
              <p:cNvSpPr/>
              <p:nvPr/>
            </p:nvSpPr>
            <p:spPr>
              <a:xfrm flipV="1">
                <a:off x="7637760" y="3638160"/>
                <a:ext cx="0" cy="47772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548480" y="3936960"/>
                <a:ext cx="1587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5581800" y="3613320"/>
              <a:ext cx="206352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666520" y="2819520"/>
            <a:ext cx="4504320" cy="477720"/>
            <a:chOff x="2666520" y="2819520"/>
            <a:chExt cx="4504320" cy="477720"/>
          </a:xfrm>
        </p:grpSpPr>
        <p:grpSp>
          <p:nvGrpSpPr>
            <p:cNvPr id="214" name=""/>
            <p:cNvGrpSpPr/>
            <p:nvPr/>
          </p:nvGrpSpPr>
          <p:grpSpPr>
            <a:xfrm>
              <a:off x="2666520" y="2819520"/>
              <a:ext cx="4504320" cy="477720"/>
              <a:chOff x="2666520" y="2819520"/>
              <a:chExt cx="4504320" cy="477720"/>
            </a:xfrm>
          </p:grpSpPr>
          <p:sp>
            <p:nvSpPr>
              <p:cNvPr id="215" name=""/>
              <p:cNvSpPr/>
              <p:nvPr/>
            </p:nvSpPr>
            <p:spPr>
              <a:xfrm>
                <a:off x="6019920" y="2971800"/>
                <a:ext cx="160200" cy="1573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16" name=""/>
              <p:cNvGrpSpPr/>
              <p:nvPr/>
            </p:nvGrpSpPr>
            <p:grpSpPr>
              <a:xfrm>
                <a:off x="2666520" y="2819520"/>
                <a:ext cx="4504320" cy="477720"/>
                <a:chOff x="2666520" y="2819520"/>
                <a:chExt cx="4504320" cy="477720"/>
              </a:xfrm>
            </p:grpSpPr>
            <p:sp>
              <p:nvSpPr>
                <p:cNvPr id="217" name=""/>
                <p:cNvSpPr/>
                <p:nvPr/>
              </p:nvSpPr>
              <p:spPr>
                <a:xfrm flipH="1">
                  <a:off x="2666520" y="3048120"/>
                  <a:ext cx="3505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6216480" y="2819520"/>
                  <a:ext cx="954360" cy="4777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9" name=""/>
            <p:cNvSpPr/>
            <p:nvPr/>
          </p:nvSpPr>
          <p:spPr>
            <a:xfrm>
              <a:off x="6326280" y="289548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447920" y="2286000"/>
            <a:ext cx="4876560" cy="2824200"/>
            <a:chOff x="1447920" y="2286000"/>
            <a:chExt cx="4876560" cy="2824200"/>
          </a:xfrm>
        </p:grpSpPr>
        <p:sp>
          <p:nvSpPr>
            <p:cNvPr id="222" name=""/>
            <p:cNvSpPr/>
            <p:nvPr/>
          </p:nvSpPr>
          <p:spPr>
            <a:xfrm>
              <a:off x="1447920" y="228600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800600" y="356868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Via ABSTRACT supertype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170840" y="4091040"/>
            <a:ext cx="954000" cy="476280"/>
          </a:xfrm>
          <a:prstGeom prst="rect">
            <a:avLst/>
          </a:prstGeom>
          <a:solidFill>
            <a:srgbClr val="ffff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6694560" y="3297240"/>
            <a:ext cx="0" cy="31608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5491080" y="3612960"/>
            <a:ext cx="160560" cy="477720"/>
            <a:chOff x="5491080" y="3612960"/>
            <a:chExt cx="160560" cy="477720"/>
          </a:xfrm>
        </p:grpSpPr>
        <p:sp>
          <p:nvSpPr>
            <p:cNvPr id="229" name=""/>
            <p:cNvSpPr/>
            <p:nvPr/>
          </p:nvSpPr>
          <p:spPr>
            <a:xfrm flipV="1">
              <a:off x="5581080" y="3612960"/>
              <a:ext cx="0" cy="4777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491080" y="3911760"/>
              <a:ext cx="160560" cy="1591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7548480" y="3638160"/>
            <a:ext cx="158760" cy="477720"/>
            <a:chOff x="7548480" y="3638160"/>
            <a:chExt cx="158760" cy="477720"/>
          </a:xfrm>
        </p:grpSpPr>
        <p:sp>
          <p:nvSpPr>
            <p:cNvPr id="232" name=""/>
            <p:cNvSpPr/>
            <p:nvPr/>
          </p:nvSpPr>
          <p:spPr>
            <a:xfrm flipV="1">
              <a:off x="7637760" y="3638160"/>
              <a:ext cx="0" cy="4777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548480" y="3936960"/>
              <a:ext cx="158760" cy="1591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5581800" y="3613320"/>
            <a:ext cx="206352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05520" y="4091040"/>
            <a:ext cx="950760" cy="476280"/>
          </a:xfrm>
          <a:prstGeom prst="rect">
            <a:avLst/>
          </a:prstGeom>
          <a:solidFill>
            <a:srgbClr val="ffff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2666520" y="2819520"/>
            <a:ext cx="4504320" cy="477720"/>
            <a:chOff x="2666520" y="2819520"/>
            <a:chExt cx="4504320" cy="477720"/>
          </a:xfrm>
        </p:grpSpPr>
        <p:grpSp>
          <p:nvGrpSpPr>
            <p:cNvPr id="237" name=""/>
            <p:cNvGrpSpPr/>
            <p:nvPr/>
          </p:nvGrpSpPr>
          <p:grpSpPr>
            <a:xfrm>
              <a:off x="2666520" y="2819520"/>
              <a:ext cx="4504320" cy="477720"/>
              <a:chOff x="2666520" y="2819520"/>
              <a:chExt cx="4504320" cy="477720"/>
            </a:xfrm>
          </p:grpSpPr>
          <p:sp>
            <p:nvSpPr>
              <p:cNvPr id="238" name=""/>
              <p:cNvSpPr/>
              <p:nvPr/>
            </p:nvSpPr>
            <p:spPr>
              <a:xfrm>
                <a:off x="6019920" y="2971800"/>
                <a:ext cx="160200" cy="1573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39" name=""/>
              <p:cNvGrpSpPr/>
              <p:nvPr/>
            </p:nvGrpSpPr>
            <p:grpSpPr>
              <a:xfrm>
                <a:off x="2666520" y="2819520"/>
                <a:ext cx="4504320" cy="477720"/>
                <a:chOff x="2666520" y="2819520"/>
                <a:chExt cx="4504320" cy="477720"/>
              </a:xfrm>
            </p:grpSpPr>
            <p:sp>
              <p:nvSpPr>
                <p:cNvPr id="240" name=""/>
                <p:cNvSpPr/>
                <p:nvPr/>
              </p:nvSpPr>
              <p:spPr>
                <a:xfrm flipH="1">
                  <a:off x="2666520" y="3048120"/>
                  <a:ext cx="3505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216480" y="2819520"/>
                  <a:ext cx="954360" cy="4777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2" name=""/>
            <p:cNvSpPr/>
            <p:nvPr/>
          </p:nvSpPr>
          <p:spPr>
            <a:xfrm>
              <a:off x="6326280" y="289548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447920" y="228600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96160" y="356868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3808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1981080"/>
            <a:ext cx="2286000" cy="21160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text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400800" y="4876920"/>
            <a:ext cx="1987200" cy="1014120"/>
            <a:chOff x="6400800" y="4876920"/>
            <a:chExt cx="1987200" cy="1014120"/>
          </a:xfrm>
        </p:grpSpPr>
        <p:pic>
          <p:nvPicPr>
            <p:cNvPr id="58" name="" descr=""/>
            <p:cNvPicPr/>
            <p:nvPr/>
          </p:nvPicPr>
          <p:blipFill>
            <a:blip r:embed="rId3"/>
            <a:stretch/>
          </p:blipFill>
          <p:spPr>
            <a:xfrm>
              <a:off x="640080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40116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689880" y="2362320"/>
            <a:ext cx="1400760" cy="1236600"/>
            <a:chOff x="6689880" y="2362320"/>
            <a:chExt cx="1400760" cy="1236600"/>
          </a:xfrm>
        </p:grpSpPr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6689880" y="2362320"/>
              <a:ext cx="137124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669060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9152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Via SELECT type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105520" y="3047760"/>
            <a:ext cx="3019320" cy="1519560"/>
            <a:chOff x="5105520" y="3047760"/>
            <a:chExt cx="3019320" cy="1519560"/>
          </a:xfrm>
        </p:grpSpPr>
        <p:sp>
          <p:nvSpPr>
            <p:cNvPr id="249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5334120" y="3047760"/>
              <a:ext cx="2373120" cy="1068120"/>
              <a:chOff x="5334120" y="3047760"/>
              <a:chExt cx="2373120" cy="1068120"/>
            </a:xfrm>
          </p:grpSpPr>
          <p:sp>
            <p:nvSpPr>
              <p:cNvPr id="251" name=""/>
              <p:cNvSpPr/>
              <p:nvPr/>
            </p:nvSpPr>
            <p:spPr>
              <a:xfrm flipV="1">
                <a:off x="5581800" y="3047760"/>
                <a:ext cx="0" cy="1042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491080" y="3911760"/>
                <a:ext cx="1605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>
                <a:off x="7637400" y="3047760"/>
                <a:ext cx="0" cy="1068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548480" y="3936960"/>
                <a:ext cx="1587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334120" y="3048120"/>
                <a:ext cx="22860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371600" y="2286000"/>
            <a:ext cx="4952880" cy="2824200"/>
            <a:chOff x="1371600" y="2286000"/>
            <a:chExt cx="4952880" cy="2824200"/>
          </a:xfrm>
        </p:grpSpPr>
        <p:sp>
          <p:nvSpPr>
            <p:cNvPr id="259" name=""/>
            <p:cNvSpPr/>
            <p:nvPr/>
          </p:nvSpPr>
          <p:spPr>
            <a:xfrm>
              <a:off x="1371600" y="228600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800600" y="356868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2666880" y="2819520"/>
            <a:ext cx="2675160" cy="477720"/>
            <a:chOff x="2666880" y="2819520"/>
            <a:chExt cx="2675160" cy="477720"/>
          </a:xfrm>
        </p:grpSpPr>
        <p:sp>
          <p:nvSpPr>
            <p:cNvPr id="262" name=""/>
            <p:cNvSpPr/>
            <p:nvPr/>
          </p:nvSpPr>
          <p:spPr>
            <a:xfrm>
              <a:off x="3657600" y="2971800"/>
              <a:ext cx="160200" cy="1573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2666880" y="3048120"/>
              <a:ext cx="106704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3809880" y="2819520"/>
              <a:ext cx="1532160" cy="477720"/>
              <a:chOff x="3809880" y="2819520"/>
              <a:chExt cx="1532160" cy="477720"/>
            </a:xfrm>
          </p:grpSpPr>
          <p:sp>
            <p:nvSpPr>
              <p:cNvPr id="265" name=""/>
              <p:cNvSpPr/>
              <p:nvPr/>
            </p:nvSpPr>
            <p:spPr>
              <a:xfrm>
                <a:off x="3809880" y="2819520"/>
                <a:ext cx="1532160" cy="4777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142880" y="2870280"/>
                <a:ext cx="1183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ELEC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038480" y="2819520"/>
                <a:ext cx="0" cy="4572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Via SELECT type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5105520" y="3047760"/>
            <a:ext cx="3019320" cy="1519560"/>
            <a:chOff x="5105520" y="3047760"/>
            <a:chExt cx="3019320" cy="1519560"/>
          </a:xfrm>
        </p:grpSpPr>
        <p:sp>
          <p:nvSpPr>
            <p:cNvPr id="271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5334120" y="3047760"/>
              <a:ext cx="2373120" cy="1068120"/>
              <a:chOff x="5334120" y="3047760"/>
              <a:chExt cx="2373120" cy="1068120"/>
            </a:xfrm>
          </p:grpSpPr>
          <p:sp>
            <p:nvSpPr>
              <p:cNvPr id="273" name=""/>
              <p:cNvSpPr/>
              <p:nvPr/>
            </p:nvSpPr>
            <p:spPr>
              <a:xfrm flipV="1">
                <a:off x="5581800" y="3047760"/>
                <a:ext cx="0" cy="1042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491080" y="3911760"/>
                <a:ext cx="1605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7637400" y="3047760"/>
                <a:ext cx="0" cy="1068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548480" y="3936960"/>
                <a:ext cx="1587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334120" y="3048120"/>
                <a:ext cx="22860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371600" y="228600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905520" y="3568680"/>
            <a:ext cx="152424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2666880" y="2819520"/>
            <a:ext cx="2675160" cy="477720"/>
            <a:chOff x="2666880" y="2819520"/>
            <a:chExt cx="2675160" cy="477720"/>
          </a:xfrm>
        </p:grpSpPr>
        <p:sp>
          <p:nvSpPr>
            <p:cNvPr id="283" name=""/>
            <p:cNvSpPr/>
            <p:nvPr/>
          </p:nvSpPr>
          <p:spPr>
            <a:xfrm>
              <a:off x="3657600" y="2971800"/>
              <a:ext cx="160200" cy="1573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2666880" y="3048120"/>
              <a:ext cx="106704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3809880" y="2819520"/>
              <a:ext cx="1532160" cy="477720"/>
              <a:chOff x="3809880" y="2819520"/>
              <a:chExt cx="1532160" cy="477720"/>
            </a:xfrm>
          </p:grpSpPr>
          <p:sp>
            <p:nvSpPr>
              <p:cNvPr id="286" name=""/>
              <p:cNvSpPr/>
              <p:nvPr/>
            </p:nvSpPr>
            <p:spPr>
              <a:xfrm>
                <a:off x="3809880" y="2819520"/>
                <a:ext cx="1532160" cy="4777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142880" y="2870280"/>
                <a:ext cx="1183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ELEC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038480" y="2819520"/>
                <a:ext cx="0" cy="4572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ncomplete 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ust be “completed” to create a valid 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hoices for completing them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IS/2 defines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rule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for satisfy dangling relationships by adding in selected     BASE-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ules derived (by hand) from the EXPRESS for each type of dangling re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C Chang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S/2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CIS/2 Pub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ole of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mary role: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onformance Tes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also serve important practical roles i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fying a trans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cribing a trans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dicting what data exchange is po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o Easy Solu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Cs always recognised as the single most difficult are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de scope of the LP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exchange between dissimilar appl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ready-made solution (STEP or IA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y to industrial deployment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Change from CIS/2 </a:t>
            </a:r>
            <a:r>
              <a:rPr b="1" lang="en-US" sz="44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?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gorous pre-defined “building-block”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ed any conceivable CC combination to be creat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visaged that “industry” would determine which CC combinations would be u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ganic ev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but how to star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Change from CIS/2 </a:t>
            </a:r>
            <a:r>
              <a:rPr b="1" lang="en-US" sz="44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?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reviewers found the concept of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ncomplet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ASE-CCs difficu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documented, did not allow fully for the constraining effect of the WHERE rul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require some BASE-CCs to be used in combin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reducing the effective number of BASE-CCs  (and thus their </a:t>
            </a: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incompleteness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)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Change from CIS/2 </a:t>
            </a:r>
            <a:r>
              <a:rPr b="1" lang="en-US" sz="44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?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PM/5 has since been revi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number of entities has increas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implying still more BASE-C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per/sub-type trees simplified (less 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implying many less </a:t>
            </a:r>
            <a:r>
              <a:rPr b="0" i="1" lang="en-GB" sz="2800" spc="-1" strike="noStrike">
                <a:solidFill>
                  <a:srgbClr val="00ffff"/>
                </a:solidFill>
                <a:latin typeface="Times New Roman"/>
              </a:rPr>
              <a:t>incomplete</a:t>
            </a: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 BASE-C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pproach involving less “permutations” required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Key Chang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wer pre-defined 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will be added as 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ne based-on the generic STEP ent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CCs defined a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omple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defined by a “short form” sch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 an Excel spreadsheet to specify which entities are in each C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C Revision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om Workshop #1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 from Day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Complete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CC Now?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nges to the structure of LPM/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wer ANDOR constru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associative ent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act of WHERE r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ll some cases where there is a choice over which entity to inclu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gineering judgement applied to decide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ac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pragmatic evolutionary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pler to underst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RESS centric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STEP toolkit to generate “long form” schema for each CC (and CC combin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ific subset sch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focus on the relevant ent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role in conformance tes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ac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ignificant repackaging of the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offers significant benef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underlying industrial/commercial issues remai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CC (and CC combinations) to impl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 for compatible cho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rability of evolutionary convergence (plus innov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ew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ically built round a base ent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ied by a reference number: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12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readsheet specifies which entities are included in which 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also defined by a “short form” sch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fies which types, entities, functions and rules are included from the full sch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Short form defini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-228960" y="2209320"/>
            <a:ext cx="937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PM5_CC12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FR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RUCTURAL_FRAME_SCHEMA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ase_enti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ERENCE FR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RUCTURAL_FRAME_SCHEMA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st of typ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ERENCE FR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RUCTURAL_FRAME_SCHEMA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st of entiti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ERENCE FR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RUCTURAL_FRAME_SCHEMA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st of func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ERENCE FR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RUCTURAL_FRAME_SCHEMA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st of ru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Short form defini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urier New"/>
              </a:rPr>
              <a:t>SCHEMA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1400" spc="-1" strike="noStrike">
                <a:solidFill>
                  <a:srgbClr val="00ffff"/>
                </a:solidFill>
                <a:latin typeface="Courier New"/>
              </a:rPr>
              <a:t>LPM5_CC001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;  </a:t>
            </a:r>
            <a:r>
              <a:rPr b="0" lang="en-GB" sz="1400" spc="-1" strike="noStrike">
                <a:solidFill>
                  <a:srgbClr val="ffff00"/>
                </a:solidFill>
                <a:latin typeface="Courier New"/>
              </a:rPr>
              <a:t>-- date_and_ti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urier New"/>
              </a:rPr>
              <a:t>USE FROM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STRUCTURAL_FRAME_SCHEMA (date_and_time); </a:t>
            </a:r>
            <a:r>
              <a:rPr b="0" lang="en-GB" sz="1400" spc="-1" strike="noStrike">
                <a:solidFill>
                  <a:srgbClr val="ffff00"/>
                </a:solidFill>
                <a:latin typeface="Courier New"/>
              </a:rPr>
              <a:t>-- Base Ent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urier New"/>
              </a:rPr>
              <a:t>REFERENCE FROM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STRUCTURAL_FRAME_SCHEMA ( </a:t>
            </a:r>
            <a:r>
              <a:rPr b="0" lang="en-GB" sz="1400" spc="-1" strike="noStrike">
                <a:solidFill>
                  <a:srgbClr val="ffff00"/>
                </a:solidFill>
                <a:latin typeface="Courier New"/>
              </a:rPr>
              <a:t>-- Enti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calendar_date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coordinated_universal_time_offset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date, local_time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urier New"/>
              </a:rPr>
              <a:t>REFERENCE FROM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STRUCTURAL_FRAME_SCHEMA ( </a:t>
            </a:r>
            <a:r>
              <a:rPr b="0" lang="en-GB" sz="1400" spc="-1" strike="noStrike">
                <a:solidFill>
                  <a:srgbClr val="ffff00"/>
                </a:solidFill>
                <a:latin typeface="Courier New"/>
              </a:rPr>
              <a:t>-- Typ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ahead_or_behind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day_in_month_number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hour_in_day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minute_in_hour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month_in_year_number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second_in_minute, year_number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urier New"/>
              </a:rPr>
              <a:t>REFERENCE FROM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STRUCTURAL_FRAME_SCHEMA (  </a:t>
            </a:r>
            <a:r>
              <a:rPr b="0" lang="en-GB" sz="1400" spc="-1" strike="noStrike">
                <a:solidFill>
                  <a:srgbClr val="ffff00"/>
                </a:solidFill>
                <a:latin typeface="Courier New"/>
              </a:rPr>
              <a:t>-- Func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leap_year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valid_calendar_date, valid_time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urier New"/>
              </a:rPr>
              <a:t>END_SCHEMA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hema Interfac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ports entity definitions from one schema to ano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Short form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n-GB" sz="3200" spc="-1" strike="noStrike">
                <a:solidFill>
                  <a:srgbClr val="00ffff"/>
                </a:solidFill>
                <a:latin typeface="Times New Roman"/>
              </a:rPr>
              <a:t>incomplet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)                                         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Long Form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n-GB" sz="3200" spc="-1" strike="noStrike">
                <a:solidFill>
                  <a:srgbClr val="00ffff"/>
                </a:solidFill>
                <a:latin typeface="Times New Roman"/>
              </a:rPr>
              <a:t>complet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n item explicitly imported into a schema will implicitly reference other items it nee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ood modelling practice to explicitly import all required defini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hema Interfac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E FROM schema (items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ields </a:t>
            </a: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first-clas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tems (can have instances independent of being used by some other ent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FERENCE FROM schema (items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ields </a:t>
            </a: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second-clas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tems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have instances only if referenced by another instance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ems may b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tities, types, functions, ru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efinition of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2743200" y="1979640"/>
            <a:ext cx="2208960" cy="3049200"/>
            <a:chOff x="2743200" y="1979640"/>
            <a:chExt cx="2208960" cy="3049200"/>
          </a:xfrm>
        </p:grpSpPr>
        <p:grpSp>
          <p:nvGrpSpPr>
            <p:cNvPr id="323" name=""/>
            <p:cNvGrpSpPr/>
            <p:nvPr/>
          </p:nvGrpSpPr>
          <p:grpSpPr>
            <a:xfrm>
              <a:off x="2743200" y="2971800"/>
              <a:ext cx="2208960" cy="2057040"/>
              <a:chOff x="2743200" y="2971800"/>
              <a:chExt cx="2208960" cy="20570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3809880" y="2971800"/>
                <a:ext cx="990720" cy="1676520"/>
                <a:chOff x="3809880" y="2971800"/>
                <a:chExt cx="990720" cy="167652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4190760" y="2971800"/>
                  <a:ext cx="609840" cy="1295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4114800" y="3048120"/>
                  <a:ext cx="609480" cy="1295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038480" y="3124080"/>
                  <a:ext cx="609480" cy="129564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3962160" y="3200400"/>
                  <a:ext cx="609840" cy="1295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3886200" y="3276720"/>
                  <a:ext cx="609480" cy="1295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3809880" y="3352680"/>
                  <a:ext cx="609480" cy="129564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2743200" y="3962520"/>
                <a:ext cx="914400" cy="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4101120" y="4418640"/>
                <a:ext cx="850680" cy="610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265" y="13467"/>
                    </a:moveTo>
                    <a:arcTo wR="10800" hR="10800" stAng="857907" swAng="1284525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265" y="13467"/>
                    </a:moveTo>
                    <a:arcTo wR="10800" hR="10800" stAng="857907" swAng="12845257"/>
                  </a:path>
                </a:pathLst>
              </a:custGeom>
              <a:noFill/>
              <a:ln w="7632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3737880" y="1979640"/>
              <a:ext cx="1127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C00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C09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2743200" y="1979640"/>
            <a:ext cx="4331520" cy="3963600"/>
            <a:chOff x="2743200" y="1979640"/>
            <a:chExt cx="4331520" cy="3963600"/>
          </a:xfrm>
        </p:grpSpPr>
        <p:grpSp>
          <p:nvGrpSpPr>
            <p:cNvPr id="335" name=""/>
            <p:cNvGrpSpPr/>
            <p:nvPr/>
          </p:nvGrpSpPr>
          <p:grpSpPr>
            <a:xfrm>
              <a:off x="5943600" y="2971800"/>
              <a:ext cx="990360" cy="2590920"/>
              <a:chOff x="5943600" y="2971800"/>
              <a:chExt cx="990360" cy="2590920"/>
            </a:xfrm>
          </p:grpSpPr>
          <p:sp>
            <p:nvSpPr>
              <p:cNvPr id="336" name=""/>
              <p:cNvSpPr/>
              <p:nvPr/>
            </p:nvSpPr>
            <p:spPr>
              <a:xfrm>
                <a:off x="6324480" y="2971800"/>
                <a:ext cx="609480" cy="2209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248160" y="3048120"/>
                <a:ext cx="609840" cy="2209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172200" y="3124080"/>
                <a:ext cx="609480" cy="22100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095880" y="3200400"/>
                <a:ext cx="609480" cy="2209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019560" y="3276720"/>
                <a:ext cx="609840" cy="2209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943600" y="3352680"/>
                <a:ext cx="609480" cy="22100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4952880" y="3962520"/>
              <a:ext cx="914400" cy="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43200" y="5181480"/>
              <a:ext cx="3124080" cy="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158520" y="5333040"/>
              <a:ext cx="850680" cy="61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265" y="13467"/>
                  </a:moveTo>
                  <a:arcTo wR="10800" hR="10800" stAng="857907" swAng="12845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265" y="13467"/>
                  </a:moveTo>
                  <a:arcTo wR="10800" hR="10800" stAng="857907" swAng="12845257"/>
                </a:path>
              </a:pathLst>
            </a:custGeom>
            <a:noFill/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947560" y="1979640"/>
              <a:ext cx="1127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C1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C99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48040" y="1905120"/>
            <a:ext cx="2257920" cy="4495680"/>
            <a:chOff x="1148040" y="1905120"/>
            <a:chExt cx="2257920" cy="4495680"/>
          </a:xfrm>
        </p:grpSpPr>
        <p:sp>
          <p:nvSpPr>
            <p:cNvPr id="347" name=""/>
            <p:cNvSpPr/>
            <p:nvPr/>
          </p:nvSpPr>
          <p:spPr>
            <a:xfrm>
              <a:off x="1981080" y="3276720"/>
              <a:ext cx="609840" cy="3124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148040" y="1905120"/>
              <a:ext cx="225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RUCTURAL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CHEM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3723120" y="5603760"/>
            <a:ext cx="1146960" cy="8254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Gener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162920" y="4343400"/>
            <a:ext cx="1190520" cy="8254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Specif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166880" y="2971800"/>
            <a:ext cx="1774800" cy="119124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Generic Class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001 to CC09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aller CCs that are used only as building blocks in the definition of other 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itially about 30 will be specifi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Basic Concept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 Management Class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100 + CC1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-defined CCs which, when combined with other Specific CCs, add-in data management conform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pecific Class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102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-defined complete and coherent CCs which, alone or combined with other Specific CCs, provide a practically useful conformance uni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itially some 200 will be specifi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formance Specific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translator is specified as being able to translate one, or more than one, Specific CC or Combination of Specific CC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12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123, CC124, CC12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CC111+CC222), CC33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formance of an application’s import and export translators may diff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rm borrowed from ISO10303 (STEP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logical subset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pecify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ranslator 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est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ranslator compli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rd bounda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all entities within must be supported in full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-defined in the CIS/2 docum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of each CC is derived logically from the EXPRESS sch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 number of defined 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they can be used in combination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which CCs to us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ase 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S/2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ocumentation defines 545 BASE-CC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is “based-on” a different entit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sts other “included entitie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defined, each BASE-CCs is either    </a:t>
            </a:r>
            <a:r>
              <a:rPr b="1" i="1" lang="en-US" sz="3200" spc="-1" strike="noStrike">
                <a:solidFill>
                  <a:srgbClr val="00ff00"/>
                </a:solidFill>
                <a:latin typeface="Times New Roman"/>
              </a:rPr>
              <a:t>Complet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Incomple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must be “completed” prior to us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30492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pleting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158480" y="2514600"/>
            <a:ext cx="5641920" cy="2319120"/>
            <a:chOff x="1158480" y="2514600"/>
            <a:chExt cx="5641920" cy="2319120"/>
          </a:xfrm>
        </p:grpSpPr>
        <p:cxnSp>
          <p:nvCxnSpPr>
            <p:cNvPr id="79" name=""/>
            <p:cNvCxnSpPr>
              <a:stCxn id="80" idx="2"/>
              <a:endCxn id="81" idx="0"/>
            </p:cNvCxnSpPr>
            <p:nvPr/>
          </p:nvCxnSpPr>
          <p:spPr>
            <a:xfrm rot="5400000">
              <a:off x="2448720" y="3039840"/>
              <a:ext cx="978480" cy="1296360"/>
            </a:xfrm>
            <a:prstGeom prst="bentConnector3">
              <a:avLst>
                <a:gd name="adj1" fmla="val 49981"/>
              </a:avLst>
            </a:prstGeom>
            <a:ln w="28440">
              <a:solidFill>
                <a:srgbClr val="cc0000"/>
              </a:solidFill>
              <a:miter/>
            </a:ln>
          </p:spPr>
        </p:cxnSp>
        <p:grpSp>
          <p:nvGrpSpPr>
            <p:cNvPr id="82" name=""/>
            <p:cNvGrpSpPr/>
            <p:nvPr/>
          </p:nvGrpSpPr>
          <p:grpSpPr>
            <a:xfrm>
              <a:off x="1158480" y="2514600"/>
              <a:ext cx="5641920" cy="2319120"/>
              <a:chOff x="1158480" y="2514600"/>
              <a:chExt cx="5641920" cy="2319120"/>
            </a:xfrm>
          </p:grpSpPr>
          <p:sp>
            <p:nvSpPr>
              <p:cNvPr id="80" name=""/>
              <p:cNvSpPr/>
              <p:nvPr/>
            </p:nvSpPr>
            <p:spPr>
              <a:xfrm>
                <a:off x="2453400" y="2514600"/>
                <a:ext cx="2265480" cy="64260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BASE-CC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158480" y="4191120"/>
                <a:ext cx="2264040" cy="642600"/>
              </a:xfrm>
              <a:prstGeom prst="rect">
                <a:avLst/>
              </a:prstGeom>
              <a:noFill/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00ff00"/>
                    </a:solidFill>
                    <a:latin typeface="Arial"/>
                  </a:rPr>
                  <a:t>Complete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207320" y="4191120"/>
                <a:ext cx="2593080" cy="64260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ff0000"/>
                    </a:solidFill>
                    <a:latin typeface="Arial"/>
                  </a:rPr>
                  <a:t>Incomplete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84" name=""/>
              <p:cNvCxnSpPr>
                <a:stCxn id="80" idx="2"/>
                <a:endCxn id="83" idx="0"/>
              </p:cNvCxnSpPr>
              <p:nvPr/>
            </p:nvCxnSpPr>
            <p:spPr>
              <a:xfrm flipH="1" rot="16200000">
                <a:off x="4055400" y="2728800"/>
                <a:ext cx="978480" cy="1918440"/>
              </a:xfrm>
              <a:prstGeom prst="bentConnector3">
                <a:avLst>
                  <a:gd name="adj1" fmla="val 49981"/>
                </a:avLst>
              </a:prstGeom>
              <a:ln w="28440">
                <a:solidFill>
                  <a:srgbClr val="cc0000"/>
                </a:solidFill>
                <a:miter/>
              </a:ln>
            </p:spPr>
          </p:cxnSp>
        </p:grpSp>
      </p:grpSp>
      <p:grpSp>
        <p:nvGrpSpPr>
          <p:cNvPr id="85" name=""/>
          <p:cNvGrpSpPr/>
          <p:nvPr/>
        </p:nvGrpSpPr>
        <p:grpSpPr>
          <a:xfrm>
            <a:off x="4747680" y="2362320"/>
            <a:ext cx="2297520" cy="2163240"/>
            <a:chOff x="4747680" y="2362320"/>
            <a:chExt cx="2297520" cy="2163240"/>
          </a:xfrm>
        </p:grpSpPr>
        <p:cxnSp>
          <p:nvCxnSpPr>
            <p:cNvPr id="86" name=""/>
            <p:cNvCxnSpPr>
              <a:stCxn id="83" idx="3"/>
              <a:endCxn id="80" idx="3"/>
            </p:cNvCxnSpPr>
            <p:nvPr/>
          </p:nvCxnSpPr>
          <p:spPr>
            <a:xfrm flipH="1" flipV="1">
              <a:off x="4747680" y="2848680"/>
              <a:ext cx="2083680" cy="1677240"/>
            </a:xfrm>
            <a:prstGeom prst="bentConnector3">
              <a:avLst>
                <a:gd name="adj1" fmla="val -10281"/>
              </a:avLst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87" name=""/>
            <p:cNvSpPr/>
            <p:nvPr/>
          </p:nvSpPr>
          <p:spPr>
            <a:xfrm>
              <a:off x="4953240" y="2362320"/>
              <a:ext cx="194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leted_b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4724280" y="5257800"/>
            <a:ext cx="990720" cy="9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5486400"/>
            <a:ext cx="83808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10080" y="5181480"/>
            <a:ext cx="76212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15000" y="54100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82880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552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dcterms:modified xsi:type="dcterms:W3CDTF">1999-06-23T22:44:42Z</dcterms:modified>
  <cp:revision>42</cp:revision>
  <dc:subject/>
  <dc:title>AISC CIS/2  Workshop #I</dc:title>
</cp:coreProperties>
</file>